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94E-399C-4B96-9562-570EB4AC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ABF-59CF-4434-AE7A-C91D2364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91E-DA21-4691-A8DC-5C6FB433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1B1-76A9-40E3-AB98-909C2877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83B-DCE2-4E82-AE09-BD7D181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4F1-1C17-4B69-A82F-983BA3D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6C2-3BDB-41F4-B437-35D9EE0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534-8EA7-4111-9E2A-748A230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C9C-F47F-4D2F-B287-353E6AAA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52B-C40E-417F-98BF-A0C542DF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DE0-DB9F-470D-87B9-CDCABA1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DAB-3B27-44BF-8BD3-72F5293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E52B-BB2D-4CAF-B2ED-7EFBA54E4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61DD-3484-498F-9458-075B7E0AE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6324480"/>
            <a:ext cx="9144000" cy="520920"/>
          </a:xfrm>
          <a:prstGeom prst="pie">
            <a:avLst/>
          </a:prstGeom>
          <a:solidFill>
            <a:srgbClr val="feba1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515280" y="216000"/>
            <a:ext cx="2489040" cy="33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2882880"/>
            <a:ext cx="9144000" cy="1854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843360" y="5219640"/>
            <a:ext cx="2606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65680" y="1523880"/>
            <a:ext cx="592776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MSOffice Excel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-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Part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Getting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Started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with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Exc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31200" y="6566040"/>
            <a:ext cx="3192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New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Perspectives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on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Microsoft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Office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Users\PCS\Desktop\téléchargement.jpg"/>
          <p:cNvPicPr/>
          <p:nvPr/>
        </p:nvPicPr>
        <p:blipFill>
          <a:blip r:embed="rId3"/>
          <a:stretch/>
        </p:blipFill>
        <p:spPr>
          <a:xfrm>
            <a:off x="7467480" y="114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36040" y="495360"/>
            <a:ext cx="8211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tion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eve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re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as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th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rigonometr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atistic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ook-up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ibbon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ich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abeling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20560" y="1930320"/>
            <a:ext cx="7874280" cy="3949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523440" y="406440"/>
            <a:ext cx="603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pread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537840" y="406440"/>
            <a:ext cx="521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24880" y="1384200"/>
            <a:ext cx="78915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i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v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s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dent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/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990720" y="4102200"/>
            <a:ext cx="765792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49720" y="507960"/>
            <a:ext cx="771408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us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eyboar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7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526680" y="406440"/>
            <a:ext cx="642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46840" y="533520"/>
            <a:ext cx="702144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lan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518040" y="406440"/>
            <a:ext cx="630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rea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652320" y="1409760"/>
            <a:ext cx="77760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cks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bb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ckst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av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528120" y="406440"/>
            <a:ext cx="608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317880" y="1422360"/>
            <a:ext cx="813996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na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ximum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u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301680" y="66038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72720" y="609480"/>
            <a:ext cx="790632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t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gi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righ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515160" y="571680"/>
            <a:ext cx="813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etter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ymb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t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t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eric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thematic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cogniz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a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4108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17680" y="1422360"/>
            <a:ext cx="803268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o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016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6872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11560" y="533520"/>
            <a:ext cx="777852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n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520560" y="1359000"/>
            <a:ext cx="7925040" cy="2692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32800" y="406440"/>
            <a:ext cx="3100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673200" y="2120760"/>
            <a:ext cx="8026200" cy="200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533160" y="406440"/>
            <a:ext cx="421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531720" y="406440"/>
            <a:ext cx="460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534240" y="1384200"/>
            <a:ext cx="801216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l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m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ver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viou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r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l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496080" y="406440"/>
            <a:ext cx="82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540720" y="1282680"/>
            <a:ext cx="2169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1112040" y="1854360"/>
            <a:ext cx="7440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uble-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wit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1302480" y="2336760"/>
            <a:ext cx="1433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444320" y="2781360"/>
            <a:ext cx="7119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li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113120" y="3238560"/>
            <a:ext cx="7095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ser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1347120" y="3720960"/>
            <a:ext cx="51544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1112400" y="4178160"/>
            <a:ext cx="7236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cksp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re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ele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315800" y="4648320"/>
            <a:ext cx="25624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107360" y="5118120"/>
            <a:ext cx="7132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302480" y="5587920"/>
            <a:ext cx="1319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816200" y="2654280"/>
            <a:ext cx="6400800" cy="215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48360" y="469800"/>
            <a:ext cx="693252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boa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hortcu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189000" y="4838760"/>
            <a:ext cx="77119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do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do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intai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tio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erform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ur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469800" y="1968480"/>
            <a:ext cx="8077320" cy="345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531360" y="431640"/>
            <a:ext cx="63036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520560" y="1359000"/>
            <a:ext cx="8026560" cy="2006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533160" y="406440"/>
            <a:ext cx="421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"/>
          <p:cNvSpPr/>
          <p:nvPr/>
        </p:nvSpPr>
        <p:spPr>
          <a:xfrm>
            <a:off x="499680" y="558720"/>
            <a:ext cx="828432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s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ouble-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499680" y="406440"/>
            <a:ext cx="828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537840" y="1282680"/>
            <a:ext cx="2670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009800" y="1866960"/>
            <a:ext cx="7467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res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249560" y="2425680"/>
            <a:ext cx="70639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8.4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1013040" y="2946240"/>
            <a:ext cx="5886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280880" y="3492360"/>
            <a:ext cx="16801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538200" y="4025880"/>
            <a:ext cx="2225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004760" y="4610160"/>
            <a:ext cx="6778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as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1/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1277280" y="5156280"/>
            <a:ext cx="938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1010160" y="5676840"/>
            <a:ext cx="70855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igh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4108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44680" y="1434960"/>
            <a:ext cx="1425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869760" y="1498680"/>
            <a:ext cx="7620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s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4337280" y="6603840"/>
            <a:ext cx="3098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520560" y="1244520"/>
            <a:ext cx="8102880" cy="4254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499680" y="406440"/>
            <a:ext cx="828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499680" y="431640"/>
            <a:ext cx="828432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"/>
          <p:cNvSpPr/>
          <p:nvPr/>
        </p:nvSpPr>
        <p:spPr>
          <a:xfrm>
            <a:off x="499680" y="507960"/>
            <a:ext cx="828432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511560" y="406440"/>
            <a:ext cx="655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rapp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71640" y="1460520"/>
            <a:ext cx="858168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app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rr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iz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ropria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app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lignm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group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a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r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gg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xc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r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516600" y="406440"/>
            <a:ext cx="719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59040" y="1460520"/>
            <a:ext cx="846756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dic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a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A1:G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nadja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A1:A5;F1:G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558720" y="2806560"/>
            <a:ext cx="7759800" cy="2997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535680" y="469800"/>
            <a:ext cx="719640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i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i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ccommo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495360" y="406440"/>
            <a:ext cx="756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ov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508320" y="1409760"/>
            <a:ext cx="786060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ange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ol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w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tr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498960" y="406440"/>
            <a:ext cx="7320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p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504000" y="1422360"/>
            <a:ext cx="807264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ght-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i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hortcu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per-le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2349360" y="1193760"/>
            <a:ext cx="4445280" cy="5092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"/>
          <p:cNvSpPr/>
          <p:nvPr/>
        </p:nvSpPr>
        <p:spPr>
          <a:xfrm>
            <a:off x="535680" y="406440"/>
            <a:ext cx="37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2044800" y="1282680"/>
            <a:ext cx="4863960" cy="5054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536040" y="406440"/>
            <a:ext cx="3792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654280" y="1206360"/>
            <a:ext cx="4381560" cy="499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549760" y="6235560"/>
            <a:ext cx="2984760" cy="15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35680" y="406440"/>
            <a:ext cx="37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96880" y="3492360"/>
            <a:ext cx="8140680" cy="1981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667800" y="482760"/>
            <a:ext cx="73386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itt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bi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46440" y="1409760"/>
            <a:ext cx="845424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444600" y="3568680"/>
            <a:ext cx="8229600" cy="2247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16960" y="1346040"/>
            <a:ext cx="79074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ce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def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l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1587600" y="3645000"/>
            <a:ext cx="6197400" cy="2679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654840" y="1346040"/>
            <a:ext cx="763128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vi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a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d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rrespond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635040" y="2882880"/>
            <a:ext cx="7899480" cy="322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"/>
          <p:cNvSpPr/>
          <p:nvPr/>
        </p:nvSpPr>
        <p:spPr>
          <a:xfrm>
            <a:off x="520920" y="469800"/>
            <a:ext cx="748008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"/>
          <p:cNvSpPr/>
          <p:nvPr/>
        </p:nvSpPr>
        <p:spPr>
          <a:xfrm>
            <a:off x="558720" y="507960"/>
            <a:ext cx="739116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uidel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e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536400" y="406440"/>
            <a:ext cx="506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troduc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195120" y="1460520"/>
            <a:ext cx="834696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am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r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mplif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duc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pa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tatemen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ample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d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1:A10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A1+A2+A3+A4+A5+A6+A7+A8+A9+A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compl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ing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SUM(A1:A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534240" y="571680"/>
            <a:ext cx="82155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utoS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ast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veni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quick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sert/generat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SU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AVERAG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t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COU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M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xim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MAX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571680" y="1663560"/>
            <a:ext cx="8089560" cy="3759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"/>
          <p:cNvSpPr/>
          <p:nvPr/>
        </p:nvSpPr>
        <p:spPr>
          <a:xfrm>
            <a:off x="534240" y="406440"/>
            <a:ext cx="8215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utoS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94000" y="520560"/>
            <a:ext cx="494604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e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502000" y="1282680"/>
            <a:ext cx="4444920" cy="490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97480" y="6235560"/>
            <a:ext cx="298440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24160" y="406440"/>
            <a:ext cx="428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2"/>
          <a:stretch/>
        </p:blipFill>
        <p:spPr>
          <a:xfrm>
            <a:off x="1155600" y="1612800"/>
            <a:ext cx="6908760" cy="4127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528120" y="406440"/>
            <a:ext cx="413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ay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762120" y="1434960"/>
            <a:ext cx="7721640" cy="4064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"/>
          <p:cNvSpPr/>
          <p:nvPr/>
        </p:nvSpPr>
        <p:spPr>
          <a:xfrm>
            <a:off x="530280" y="406440"/>
            <a:ext cx="461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537840" y="520560"/>
            <a:ext cx="55796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eview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rtra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def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andsc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533880" y="406440"/>
            <a:ext cx="482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09080" y="1460520"/>
            <a:ext cx="846828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v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oo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e.g.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/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idlin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acti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n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444600" y="2082960"/>
            <a:ext cx="8076960" cy="3225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533880" y="406440"/>
            <a:ext cx="482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1828800" y="3111480"/>
            <a:ext cx="5410080" cy="326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669600" y="152280"/>
            <a:ext cx="736308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wit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fu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cou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exp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ami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derl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cu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leag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1320840" y="2349360"/>
            <a:ext cx="6273720" cy="39117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507960" y="177840"/>
            <a:ext cx="73407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a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528480" y="406440"/>
            <a:ext cx="7655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troduc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25960" y="1409760"/>
            <a:ext cx="813060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mpu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progra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ore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z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pres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antitat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rganiz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pda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re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lectron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er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lle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ai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g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isplay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pres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graphic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536040" y="571680"/>
            <a:ext cx="82119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bil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sses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ffe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s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ust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nvers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36040" y="571680"/>
            <a:ext cx="821196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gr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ever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rfa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mpl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vail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udget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endar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la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al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it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536040" y="571680"/>
            <a:ext cx="821196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f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uggest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e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re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te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al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ract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imultaneou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S</dc:creator>
  <dc:description/>
  <dc:language>en-US</dc:language>
  <cp:lastModifiedBy>PCS</cp:lastModifiedBy>
  <dcterms:modified xsi:type="dcterms:W3CDTF">2014-03-01T09:33:36Z</dcterms:modified>
  <cp:revision>10</cp:revision>
  <dc:subject/>
  <dc:title>Slide 1</dc:title>
</cp:coreProperties>
</file>